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00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08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1520" y="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941400" y="745920"/>
            <a:ext cx="496872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721400"/>
            <a:ext cx="54799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152B-2DFD-4011-B148-EEA97CDA6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8D8A-B580-4D07-AB95-98E3F4C8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721400"/>
            <a:ext cx="5479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X=Foreing Exchanges- Cursurile de schimb ex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575-F380-46A9-9591-DBAEA2B5A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721040"/>
            <a:ext cx="54799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C40-9C21-4F49-8FA2-58990AAE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4A4-1B59-498D-9926-EDDB5DEA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538-FB03-4CDE-92CD-97F7A57B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029-128F-48C2-9A82-86E1CC1C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2ED2-992C-42DA-89A6-E096338C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B2AF-B277-4524-89B8-67019E3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04C-87BA-47ED-96DC-F124407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24B8-55C4-4EAC-AD2B-8499E8FF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BE4A-0A1C-4CCC-96AF-0E218121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E00E-4018-4A1D-80AF-8FA7AFC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E6DE-1D22-4553-95BB-21E13707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8C9-C800-467B-AB60-ABE011D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2E3B-6452-4499-B604-084D17A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3931-5CC3-464A-8172-BA7DC64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947-8B73-4792-900D-95F3C64F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605-34CF-4814-ADA4-E49B312E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8FF-B5D6-48F9-BFEE-7656D952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79E0-51D4-4701-B4AC-81BEA59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E348-52ED-4846-9E7C-0810A56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C803-A568-45CC-9AED-D1EFCA7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BAC8-2EFF-4798-B5C2-FA4D342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CAD8-63A5-4D41-8B52-869D549D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192-3B53-495C-88F8-2B12D183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0831-92D0-4AE5-A6FC-FD3CF74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99C9-3EBB-4A51-A2A2-EA87127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AA31-A38D-470C-947E-FB0417E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833F-EF25-4477-9307-76700DB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2C37-FFC8-4B94-B4C5-477AD25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F103-EA72-4F5E-AC80-19C2A29F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B26A-E9E7-43F3-AC20-43D82B72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0577-6A10-46DA-AA36-8A712450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DFC3-6BA6-419D-859A-1B20630A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DCBD-6276-46EE-8E2C-F74F17C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3F6-BDC7-4A22-9882-00FC0E3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8AD5-9FF6-480E-8B1D-D346D0C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5EC2-4DE9-4168-9C27-90393805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A66B-3058-4809-957F-989E25C8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7799-64B8-43BB-A896-9BDDE79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E600-4AD3-411D-B049-AD4FAFE9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A675-D8EA-4011-8678-FB7C8EB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C18D-0255-40A8-80F6-60BA599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B01B-E9C7-4BB1-A9F3-82CBB1BC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3757-C2B0-4AC3-9A68-D7C4524E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B87A-BC22-42DA-9099-B6C80BFE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558-C5DE-4002-BD2E-FA3B92F7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E891-3A27-4E7C-A814-36401700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2D16-0173-4548-9E65-A1B24E9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141D-92EF-4228-9BF3-795D69A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AECBF-30B5-4FA6-8505-14EF0A6E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FBEBE-2213-410B-B6D0-8226D48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97E5-9F79-4F1C-B646-4AC9E26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4229-2774-4631-8B8F-DAD0D50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8F91A-7FBB-48E3-BAB5-6B2C919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1A6E5-A5F1-4E57-8469-FD130A1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27FB-4B3F-4305-9412-EB78B1E1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923-4BA6-4DCD-A557-3C3DF86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7919-2787-454A-84D6-638DEB3E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44F6-53F1-4837-A94A-8FF7162D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8CB2-B169-438F-BD1A-E14E0C9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7D5B4-6A6D-40D6-8205-509CF87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8CCB-1CE3-4D93-A884-2315796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E0E5-2437-4029-B863-517FAA2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C4E4-E124-4D52-808C-AC86EA77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4439-2720-4765-888F-57115FD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0A28-2FF4-4452-8572-DA89AA7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2EE7-FE7B-4128-97C4-74A96E0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92E-0E8F-45C7-AB39-011FB48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0C6F-9D72-40B3-A0EB-54D975F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8D05-6553-4F54-B982-26EC534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878E-1EC1-4E88-9524-900B7B45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BC40-6F7D-4106-A47E-9F63D256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74387-CA2A-4413-BDD0-B4D4959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0DDE-F86C-4CFE-AD91-9966DCCC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0493-E533-4C8A-89F7-9881E0D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3153-354B-4B5E-8029-CD8FA5A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54FC-5D5C-4476-98D8-5CCC27C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4789-F5DE-4B45-8473-127AC33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827-3488-421E-AD8B-AEDDF74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4CC6-F88D-48A2-9654-7C79333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2C67-48FD-44C0-89F7-D020B23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4C0B-F216-4D6D-82D9-B842F201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A3FE-F431-4C0A-B1F0-4A896C0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9429-39CB-471C-9951-7EB05308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EC6F-15FB-4E84-84C0-C78EE4EB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2854-4C3B-4FA0-93D7-35B7E9F9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77E4E-F6BF-480B-931A-D945754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6B9B-D839-484F-A4A9-23EA38F6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96DC-5A7C-420B-8228-C1D50F3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CDA-CECB-474F-80FB-A181FBB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EF5F-C2E4-4CC3-A6AB-3EE4F5C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7977-0575-45CA-B5B1-9CFAF3D3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5354-FA50-4982-8CFB-3744A86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72FD6-2A1E-4E51-BE69-C1C529C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A159-0196-47BB-94DA-C0DE5F37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AE86-7CF0-434D-B791-92FF05B3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CD03-7D72-48B3-A037-23B35CE2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4ED-68E8-41B4-9DCB-C331F5B4D8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24A9-F026-403C-A080-1D18DE7B84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D4A-4A1A-4EFF-B8D6-DD7D17A6A28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34E8-6AE7-440B-AD67-341AF8D19B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6E4-5560-4472-A85E-CE14F650D0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366-5076-41AD-BE43-5D5B1FD86B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80E1-89B9-4ECE-9448-2562A454B0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149-B459-4921-9D0C-72A86F774D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ctorul de componente auto din Romania continua sa se dezvolt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. Ing. Constantin Stro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tesedinte, Director General al ACAR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EDIAFAX Talks about Auto Indust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28 octombrie 200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82E-9161-4D02-8724-DD4AF30D1F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00320" y="54900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reviziunile pentru 2008: ingrijoratoa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-181080" y="1052640"/>
            <a:ext cx="9325080" cy="58053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0" y="0"/>
            <a:ext cx="3240000" cy="3988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ul materialelor de b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2268360" y="1557360"/>
            <a:ext cx="4391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411280" y="155736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steri fata de anul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5148360" y="2852640"/>
            <a:ext cx="35272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sterea preturilor materialelor energointensive probabil se va tempera datorita revenirii pretului petrolului si regresului cererii in industrie si, in special,  in construct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6BC3-946B-46E4-92F7-E94066C5FA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sturi de fabricatie- avantaje si dezavantaje comparativ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250920" y="2060640"/>
          <a:ext cx="3666960" cy="39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0640"/>
                    <a:ext cx="36669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4067280" y="2060640"/>
          <a:ext cx="2087280" cy="45464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Ce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51" name="Text Box 4"/>
          <p:cNvSpPr/>
          <p:nvPr/>
        </p:nvSpPr>
        <p:spPr>
          <a:xfrm>
            <a:off x="0" y="0"/>
            <a:ext cx="2592360" cy="3988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 de fabr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468360" y="6165720"/>
            <a:ext cx="14292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68360" y="6381720"/>
            <a:ext cx="142920" cy="7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1908000" y="6165720"/>
            <a:ext cx="142920" cy="71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908000" y="6453360"/>
            <a:ext cx="142920" cy="71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marL="343080" indent="-343080" algn="ctr">
              <a:spcBef>
                <a:spcPts val="4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2916360" y="6165720"/>
            <a:ext cx="142920" cy="7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2916360" y="6453360"/>
            <a:ext cx="142920" cy="712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11280" y="6093000"/>
            <a:ext cx="107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611280" y="609300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,06-5,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11280" y="6093000"/>
            <a:ext cx="100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611280" y="630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,43-7,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2050920" y="6093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,1-7,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050920" y="6381720"/>
            <a:ext cx="8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,9-8,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3132000" y="60930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,8-11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3059280" y="6381720"/>
            <a:ext cx="108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3132000" y="6381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324000" y="162864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 Gaz metan (Euro/G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780000" y="1628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.Electrica(Euro/kw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659640" y="2093760"/>
          <a:ext cx="2160360" cy="4515120"/>
        </p:xfrm>
        <a:graphic>
          <a:graphicData uri="http://schemas.openxmlformats.org/drawingml/2006/table">
            <a:tbl>
              <a:tblPr/>
              <a:tblGrid>
                <a:gridCol w="1224000"/>
                <a:gridCol w="93636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77"/>
          <p:cNvSpPr/>
          <p:nvPr/>
        </p:nvSpPr>
        <p:spPr>
          <a:xfrm>
            <a:off x="6588000" y="1482840"/>
            <a:ext cx="208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8"/>
          <p:cNvSpPr/>
          <p:nvPr/>
        </p:nvSpPr>
        <p:spPr>
          <a:xfrm>
            <a:off x="6588000" y="141300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l mediu orar al muncii (euro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9"/>
          <p:cNvSpPr/>
          <p:nvPr/>
        </p:nvSpPr>
        <p:spPr>
          <a:xfrm>
            <a:off x="6659640" y="658332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8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7F7-1E95-4491-A213-DBECCC7303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85760" y="851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Costurile de fabricatie au crescut, dar diferit,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intre 2004-2007. Costul muncii ramane insa considerabil mai mic in Romania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1434960" y="1824120"/>
            <a:ext cx="7499520" cy="46051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"/>
          <p:cNvSpPr/>
          <p:nvPr/>
        </p:nvSpPr>
        <p:spPr>
          <a:xfrm>
            <a:off x="7451640" y="659772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rsa Alix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0" y="0"/>
            <a:ext cx="2592360" cy="3988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 de fabr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7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A17-072E-4102-8A72-0A9F39A62D1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003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iscul in sourcing a devenit inadmisibil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752400" y="1571760"/>
            <a:ext cx="4248360" cy="3313080"/>
          </a:xfrm>
          <a:prstGeom prst="rect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ist al risc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ing-ul global sau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ne acut problema  riscuri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care furnizor se va concentra 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uni de prevenire/restructurar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ior, dar si in amonte,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furnizorii propri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5221440" y="1557360"/>
            <a:ext cx="3636720" cy="3384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0" y="0"/>
            <a:ext cx="28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atea sourcing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3492360" y="220500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5910120" y="16066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area logisti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2"/>
          <p:cNvSpPr/>
          <p:nvPr/>
        </p:nvSpPr>
        <p:spPr>
          <a:xfrm>
            <a:off x="755640" y="5661000"/>
            <a:ext cx="114300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zvolt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rastruturi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979640" y="5589720"/>
            <a:ext cx="685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gramul national  de autostrazi, cu bugetare multianuala la nivelul de 6% din P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rumuri exp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enturi de  ocol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1143000" y="5114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 problema “chei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402160" y="3071880"/>
            <a:ext cx="3384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CAROM este implicata alaturi de Dacia in formarea logistica a componentistilor cu suport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DETTE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1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78B-5939-4B3D-A50E-9ECAC37389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5760" y="4287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glementari tehnice mai severe urmeaza sa intre in vigoa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6800" y="149976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uro5 si Euro 6, aprobate deja de Parlamentul European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area emisiei de CO2 la 130gr/km (cel mult!) va fi, probabil, aprobata inainte de sfarsitul anului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or fi introduse cerinte si mai restrictive privind pneurile,  impactul frontal,  lateral si din spate, protectia pietonil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ele actuale pentru zgomotul exterior vor fi redus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ua directiva de reciclare et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Gill Sans MT"/>
              </a:rPr>
              <a:t>Efectul pozitiv: oportunitati de a se fabrica echipamente noi in Romani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atalizatoare evoluate si filtre de particu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isteme Stop@Sta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neuri cu rezistenta la rulare mi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isteme de retinere copii si ISOFI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spozitive optice cu DR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odule de comanda electronica pt securitatea pasiv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nsambluri pentru tractiunea electrica si hibrida et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0" y="0"/>
            <a:ext cx="1512720" cy="337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lement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71C7-A4B3-46EE-83F1-BC130B0320D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85760" y="6429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ill Sans MT"/>
              </a:rPr>
              <a:t>Alte intiative/actiuni europene cu impact in sectorul de component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157400" y="2252160"/>
            <a:ext cx="777240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Cresterea competitivitatii industriei europene (Strategia Lisabo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Block Exemption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Protejarea (in continuare) a desenelor si a modelelor industriale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Finalizare favorabila pentru NAMA a rundei DOH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Taxarea automobilel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AFB-A979-49AE-B26E-00735296EC4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931680" y="190080"/>
            <a:ext cx="82119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ill Sans MT"/>
              </a:rPr>
              <a:t>2.2 Provocarile lo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Traversarea « replicilor interne » ale undei de soc provocata de criza financi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ecesara tranzitie de la productia « low cost » la cea « value added » pe masura cresterii costului munci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« Ancorarea » fabricatiei de componente  auto in Romania pt a o asigura contra pericolului « migratiei spre est 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Modernizarea subfurnizorilor indigeni pentru a putea patrunde in retelele furnizorilor de rang superior instalati in Roman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368E-0215-41ED-959A-9F085718EB8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ACAROM: programe suport de adaptare a </a:t>
            </a:r>
            <a:br>
              <a:rPr sz="2500"/>
            </a:b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fabricantilor de componente la aceste noi provocari 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9720" y="1714680"/>
            <a:ext cx="792972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Parteneriat cu MEF legat de politica industriala in sectorul auto; contract pentru elaborarea strategiei sectorulu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arteneriat cu BRD pentru ghidarea financiara a investitorilor strain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Parteneriat triunghiular DACIA-ACAROM-ODETTE International pentru formare logistic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romovarea potentialului sectorului de componente auto in vederea cooperarilor si atragerea investitiilor strain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figurarea unei retele de CDI auto intern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-suport pentru amplasarea de unitati de CDI externe in Ro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-retea interna de CD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Gill Sans MT"/>
              </a:rPr>
              <a:t>6. 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sistenta pentru crearea de parcuri industriale dedicate componentistil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9FB-F8D7-45FB-8E7E-5E3278B562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25440" y="214200"/>
            <a:ext cx="784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ACAROM este implicata proactiv in elaborarea unei mai bune reglementari europene legate de automobile si component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981080"/>
            <a:ext cx="4495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Dosare in lucr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misia de CO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misia de noxe- Euro 5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uro 6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ecuritate activa si pasiv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arburanti aut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rotejarea desenelor/modelelor industrial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Block exemptio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ratativele DOHA- NAM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gim schimburi comerciale cu state extracomunitar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utomobile second-hand in N.S.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Mediu si competitivitate in N.S.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50920" y="3357720"/>
            <a:ext cx="1441440" cy="10159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CA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0" y="1916280"/>
            <a:ext cx="1785960" cy="110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CAROM=Membru 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2340000" y="1700280"/>
            <a:ext cx="1152360" cy="86364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2771640" y="2276640"/>
            <a:ext cx="1152720" cy="86328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276720" y="2852640"/>
            <a:ext cx="1152360" cy="86364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1258920" y="4653000"/>
            <a:ext cx="216072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UTORITAT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MEcFinante    - MIN MED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-MIMM&amp;Com    -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324000" y="5877000"/>
            <a:ext cx="4032000" cy="36036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UROPARLA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9"/>
          <p:cNvSpPr/>
          <p:nvPr/>
        </p:nvSpPr>
        <p:spPr>
          <a:xfrm>
            <a:off x="684360" y="2781360"/>
            <a:ext cx="574560" cy="576360"/>
          </a:xfrm>
          <a:prstGeom prst="upDownArrow">
            <a:avLst>
              <a:gd name="adj1" fmla="val 50000"/>
              <a:gd name="adj2" fmla="val 19970"/>
            </a:avLst>
          </a:prstGeom>
          <a:gradFill rotWithShape="0">
            <a:gsLst>
              <a:gs pos="0">
                <a:srgbClr val="ffff00"/>
              </a:gs>
              <a:gs pos="100000">
                <a:srgbClr val="3891a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20"/>
          <p:cNvSpPr/>
          <p:nvPr/>
        </p:nvSpPr>
        <p:spPr>
          <a:xfrm>
            <a:off x="1692360" y="2205000"/>
            <a:ext cx="647640" cy="287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21"/>
          <p:cNvSpPr/>
          <p:nvPr/>
        </p:nvSpPr>
        <p:spPr>
          <a:xfrm>
            <a:off x="1692360" y="2565360"/>
            <a:ext cx="9349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22"/>
          <p:cNvSpPr/>
          <p:nvPr/>
        </p:nvSpPr>
        <p:spPr>
          <a:xfrm>
            <a:off x="1403280" y="4292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gradFill rotWithShape="0">
            <a:gsLst>
              <a:gs pos="0">
                <a:srgbClr val="3891a7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27"/>
          <p:cNvSpPr/>
          <p:nvPr/>
        </p:nvSpPr>
        <p:spPr>
          <a:xfrm>
            <a:off x="755640" y="4292640"/>
            <a:ext cx="216000" cy="1584360"/>
          </a:xfrm>
          <a:prstGeom prst="upDownArrow">
            <a:avLst>
              <a:gd name="adj1" fmla="val 50000"/>
              <a:gd name="adj2" fmla="val 146021"/>
            </a:avLst>
          </a:prstGeom>
          <a:gradFill rotWithShape="0">
            <a:gsLst>
              <a:gs pos="0">
                <a:srgbClr val="3891a7"/>
              </a:gs>
              <a:gs pos="100000">
                <a:srgbClr val="aa8a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8"/>
          <p:cNvSpPr/>
          <p:nvPr/>
        </p:nvSpPr>
        <p:spPr>
          <a:xfrm>
            <a:off x="3851280" y="3716280"/>
            <a:ext cx="216000" cy="2089080"/>
          </a:xfrm>
          <a:prstGeom prst="upArrow">
            <a:avLst>
              <a:gd name="adj1" fmla="val 50000"/>
              <a:gd name="adj2" fmla="val 241792"/>
            </a:avLst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9"/>
          <p:cNvSpPr/>
          <p:nvPr/>
        </p:nvSpPr>
        <p:spPr>
          <a:xfrm>
            <a:off x="2987640" y="314172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2427120" y="1762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284328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2"/>
          <p:cNvSpPr/>
          <p:nvPr/>
        </p:nvSpPr>
        <p:spPr>
          <a:xfrm>
            <a:off x="3419640" y="2852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2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876C-D8EB-4C4A-8FDF-4736CB85AE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85760" y="142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3. Presiunea provocarilor “reaseaza” relatia dintre beneficiari si furnizorii lor de component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57400" y="3298680"/>
            <a:ext cx="777240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structorii si furnizorii lor din amontele lantului sunt “condamnati sa vasleasca in aceeasi barca”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spunsuri diferite pe categorii de componentist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uni ACAROM de sprijin pentru inova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1F7-83BE-4081-8DD0-AA31B22B4C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85560" y="2071800"/>
            <a:ext cx="75531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1. O radiografie a sectorulu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CDC-8BDE-4A27-B198-428D4677FA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66880" y="449280"/>
            <a:ext cx="82058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arcinile care revin componentistilor devin tot mai dificile pentru ca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755640" y="1413000"/>
            <a:ext cx="7704000" cy="1224000"/>
          </a:xfrm>
          <a:prstGeom prst="downArrowCallout">
            <a:avLst>
              <a:gd name="adj1" fmla="val 157367"/>
              <a:gd name="adj2" fmla="val 157353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826920" y="1628640"/>
            <a:ext cx="7561440" cy="1871640"/>
          </a:xfrm>
          <a:prstGeom prst="downArrowCallout">
            <a:avLst>
              <a:gd name="adj1" fmla="val 101009"/>
              <a:gd name="adj2" fmla="val 101000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1082520" y="1347840"/>
            <a:ext cx="7775640" cy="1366920"/>
          </a:xfrm>
          <a:prstGeom prst="downArrowCallout">
            <a:avLst>
              <a:gd name="adj1" fmla="val -140589"/>
              <a:gd name="adj2" fmla="val 142211"/>
              <a:gd name="adj3" fmla="val 16667"/>
              <a:gd name="adj4" fmla="val 6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155600" y="1341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f271c"/>
                </a:solidFill>
                <a:uFillTx/>
                <a:latin typeface="Times New Roman"/>
              </a:rPr>
              <a:t>Ponderea furnizorilor in bilantul valorii adaugate pe vehicul  a devenit majorit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000080" y="2827440"/>
            <a:ext cx="8143920" cy="38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863640" y="3357720"/>
            <a:ext cx="828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ptia si validarea produselor noi,  furnizorii gestioneaza dezvoltarea produselor propr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omania nu toti furnizorii locali sunt pregatiti sa asume aceasta sarc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1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577-E543-45D5-BA8C-008C2FC195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14480" y="4968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resiunea  asupra furnizorilor creste in continuar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entru ca: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7308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042920" y="1413000"/>
            <a:ext cx="7704360" cy="1224000"/>
          </a:xfrm>
          <a:prstGeom prst="downArrowCallout">
            <a:avLst>
              <a:gd name="adj1" fmla="val 157375"/>
              <a:gd name="adj2" fmla="val 157360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1114560" y="1628640"/>
            <a:ext cx="7561080" cy="1871640"/>
          </a:xfrm>
          <a:prstGeom prst="downArrowCallout">
            <a:avLst>
              <a:gd name="adj1" fmla="val 101005"/>
              <a:gd name="adj2" fmla="val 100995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403280" y="1773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ilantul valorii adaugate pe vehicul furnizorii depasesc OEM-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971640" y="1214280"/>
            <a:ext cx="7775640" cy="1638360"/>
          </a:xfrm>
          <a:prstGeom prst="downArrowCallout">
            <a:avLst>
              <a:gd name="adj1" fmla="val -106740"/>
              <a:gd name="adj2" fmla="val 107971"/>
              <a:gd name="adj3" fmla="val 16667"/>
              <a:gd name="adj4" fmla="val 6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187280" y="1209600"/>
            <a:ext cx="73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4f27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Baza de resurse se ingusteaza si preturile lor cr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250"/>
              </a:spcBef>
              <a:buClr>
                <a:srgbClr val="4f27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Cresc necesitatile de capital odata cu extinderea globaliza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971640" y="2852640"/>
            <a:ext cx="7775640" cy="374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403280" y="400536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1330200" y="357336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1373040" y="3086280"/>
            <a:ext cx="72010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ii sau furnizorii de rang 1 vor “cupla” furnizorii proprii la achizitia resurselor-problema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atile tehnologice locale, chiar ale companiilor concurente, vor trebui sa fie folosite mai m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ne necesar ca beneficiarii sa-i sprijine mai consistent pe furnizori  in: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igurarea capitalului de lucr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reglarea stocuril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finantarea dezvoltarilor de produ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15"/>
          <p:cNvSpPr/>
          <p:nvPr/>
        </p:nvSpPr>
        <p:spPr>
          <a:xfrm>
            <a:off x="871524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75E0-BFC4-40B9-828C-9D18B1D2678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4"/>
          <p:cNvSpPr/>
          <p:nvPr/>
        </p:nvSpPr>
        <p:spPr>
          <a:xfrm>
            <a:off x="755640" y="1413000"/>
            <a:ext cx="7704000" cy="1224000"/>
          </a:xfrm>
          <a:prstGeom prst="downArrowCallout">
            <a:avLst>
              <a:gd name="adj1" fmla="val 157367"/>
              <a:gd name="adj2" fmla="val 157353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1000080" y="1714680"/>
            <a:ext cx="8143920" cy="514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116000" y="400536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004760" y="1965240"/>
            <a:ext cx="8210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caruia dintre parteneri ii revine o responsabilitate maxima priv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sul propriu, in toate privinte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rea componentelor in vehicu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area conditionalitatilor pe intreg ciclul de viata al vehiculul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ul “adanc”, rapid si biunivoc la informatii: trebuie garantat si ext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mbari de materiale si tehnologi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le din incidentolog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le de produc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1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ACB-1558-4590-AA72-BD7033600F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1000080" y="5270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litatea si inovarea au devenit premize incontestabile ale succesului pe p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sibilitati si modalitati de raspuns ale componentistilor privind inovarea sunt diferentiate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28800" y="1214280"/>
            <a:ext cx="81388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urnizorii (internationali) de rang 1  isi concep produsele in centrele proprii, fiind implicati din start in conceptia vehiculelor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urnizorii de rang inferior se afla in trei situatii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filiale ale unor furnizori internationali care primesc totul, respectiv:  marketingul, piata, conceptia, investitiile tehnologice pentru asimilarea  produselor noi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furnizori  mici sau mijlocii, de regula indigeni, cu  capacitate de a-si concepe si asimila in fabricatie produse no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 componentisti mici, indigeni, fara capacitate de conceptie si asimilare produse no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Ultimele doua categorii beneficiaza (ipotetic) de cerere,  si adesea chiar de capital,  ceea ce este esential,  dar nu este suficien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     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Gill Sans MT"/>
              </a:rPr>
              <a:t>Pentru supravietuirea lor exista doua solutii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olosirea suportului financiar al statului si a capacitatii de inovare din universitati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uplarea” cu firme puternice straine din domeniul respecti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528-CC41-4484-86B9-B781A3B9B6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CAROM desfasoara un program special pentru componentisti cu tinta: “suport inovare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942840" y="121896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nformare si asistenta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contacte cu furnizori de acelasi profil din exterior, burse de contacte,  acompanieri misiuni de evaluar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Lobby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e langa autoritatile care dirijeaza fondurile pentru inovare pentru alocarea sumelor necesare pentru punerea in fabricatie de produse auto noi si pentru ameliorarea tehnologiilo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AROM este membra a Cons. Consultativ pentru CDI si celui pentru Inovare ale ANCS;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rteneriat cu AMCSIT (Agentia Manageriala de Cercetare Stiintifica, Inovare si Transfer Tehnologic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 creat portalul SPRINT pentru punerea in legatura a fabricantilor de componente cu entitatile de cercetare legate de domeniul auto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prijin direct pt redactare proiecte pentru accesarea de fonduri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rokeraj de informatii  pentru colaborari la asimilarea in productie a pieselor noi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EDD-2418-4065-A7D5-6013AF32A27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1785960" y="-357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ateva concluzii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71680" y="57132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estionare atenta a actualei crize economico-financiare globale de catre toti actorii implicati in industria de automobile, recurgand l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sterea transparentei privind preturile resurselor si bazelor de dat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nsiderarea relatiilor intre furnizori si beneficiar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area unor marje de profit mai mic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tament social adevca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rijarea preponderenta a fondurilor din PNCDI si POS catre industria de componente aut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rogramarea termenelor de realizare a investitiilo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 altel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rectarea actualei taxe de poluare de catre Guvernul Romaniei pentru stimularea pietei automobilelor noi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Pot oferi Romaniei, sansa unica de a tripla cifra de afaceri in industria auto in 2012 fata de nivelul ac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 pe pozitia de asociatie reprezentativa a sectorului auto din Romania,  si concomitent membra a  ACE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CAROM deruleaza pe baza statutului sau programe si actiuni care vizeaza dezvoltarea in continuare a sectorului de component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EA3-4BE7-455B-B908-45E0F759BB6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44360" y="2492280"/>
            <a:ext cx="197964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640" y="-143280"/>
            <a:ext cx="869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teaua de furnizori auto din Romania a crescut considerabil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786280" y="4883040"/>
            <a:ext cx="1221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95280" y="1270080"/>
            <a:ext cx="13716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R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ata Petri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oni Wiring Systems Ar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koa Fujiku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KR Elektrokontak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os Automotive Produ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Nexan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azaki Component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vetek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coa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uperplast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indu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RT Group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lme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lmet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ficab Eastern Eur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997360"/>
            <a:ext cx="151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IM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ental Automotive Produ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lphi Packard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romberg &amp; Schuber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ybl Automotive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emens Vdo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ybl Automotive Compon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R Draxlmaier Serviceleistunge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ella Lighting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ura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ficab Eastern Europe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eo Ligh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b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Neferprod Imp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pumoti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ella Electronic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hle Componente de Mo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GI Cout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que 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te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cayeu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ril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anto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a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man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M Logist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o-Ingenieu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ieff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lemmer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l P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lectr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 Plastic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7" descr="regiuni_color"/>
          <p:cNvPicPr/>
          <p:nvPr/>
        </p:nvPicPr>
        <p:blipFill>
          <a:blip r:embed="rId2"/>
          <a:stretch/>
        </p:blipFill>
        <p:spPr>
          <a:xfrm>
            <a:off x="2050920" y="170172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1476360" y="3933720"/>
            <a:ext cx="122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UNEDO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lack River Chim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him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ws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ey Safety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LR Lisa Dräxlmaier Autop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Jacquemet Inv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987640" y="549360"/>
            <a:ext cx="1517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LU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bile Componente Elect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ckerle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uwe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elleborg Romani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mberger Werkzeugb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a Moderna de Me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celec Plastic Composi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MM Autopa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nte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urde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1979640" y="765000"/>
            <a:ext cx="1012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L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chelin – Silv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chelin Romsteel Co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lcotu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39640" y="4762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TU M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RM Lisa Dralmaier Sisteme Elect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hoenix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lemmer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nov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Wo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1692360" y="1628640"/>
            <a:ext cx="1076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IH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flex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camt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UA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pi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c Crisana – Lusi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ernicol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468360" y="1052640"/>
            <a:ext cx="10285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B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ar Transmission Cugi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164360" y="98100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AHO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reudenberg Flexibile Fr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lsonic Kans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Johnson Contr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azaki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itoria Floresti / Michel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fin Sina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int Goba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364000" y="620640"/>
            <a:ext cx="1651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RASO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liv Romani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a Schaeff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preciz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ole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TR Lisa Draxlmaier SistemeTechn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PR Draxlemeier Procese de Product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u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DB-DEF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enec Rubber Easten Europe (F.R.E.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ontana Farstener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Lubrifi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rw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rgane de Asambl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SK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gic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ca - Rectif Ramania S.R.L Codl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d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radato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ide Express Romani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7705800" y="189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ARGHI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A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tri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dvanced Label Tech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4356000" y="549360"/>
            <a:ext cx="137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ISTRIT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NASA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oni Wiring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b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Ne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a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tewoPlast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1476360" y="551808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L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ltur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tiv Prod Serv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coc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ul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relli Tyre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relli Cord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5724360" y="2637000"/>
            <a:ext cx="144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UCUREST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BMI Ingine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ect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m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B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rt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V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ame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est Electron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os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aran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horus Engine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nsulting development Suppl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rescendo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ah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over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upo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aparat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voni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xi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box Logisti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lasscor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dustria Iut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ged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SIS Develo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Uttis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sra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olicol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olymo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ro Auto Industr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roto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 Charte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choeller Arca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satoriile Re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ig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ourd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oneywell Garret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aparat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eme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aimlerChrysler Automoti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mi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uro Sand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KK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1476360" y="5157720"/>
            <a:ext cx="72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C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gnetto Whe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MAR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97080" y="274608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397080" y="3703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771640" y="4510080"/>
            <a:ext cx="1371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BI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hyssen Krupp Billstein Com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yr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uhnke Production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aurecia SeatingTalmaciu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randl RO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NR Rulmenti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ata Petri Sibiu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romberg&amp;Schubert Med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yria Arcu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rquardt Schalsysteme S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ucho Metal Produ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erom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H Bran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olifl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7164360" y="1916280"/>
            <a:ext cx="1441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R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na Ime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 Co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atisme Industria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bile Da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tiv Complet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Johnson Control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ef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e au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ar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ar Corporation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 Chassis Internationa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eo Climate Contr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aleo Electical Connec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ti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 Auto Plastic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 Matri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orla Romc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elta inv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iver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NN Team Consul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nera Rub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autop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ow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tive Complet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ginerie et RealisationsIndustriel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la Integ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K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Flexi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Labco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trite Da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v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tal 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tal Imp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ontana M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u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mnium Distribu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os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rtub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er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IC-NOSA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 I L D V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wo Mar Busine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isa Draxlme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tze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P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amber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iroux Industr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ealynx Automotive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ubansamble Au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chno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lemenssy Automatiz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P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2S Vopsel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1476360" y="479736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RAS-SEVER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MD Fri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4067280" y="515772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LFO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CT Logisti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rp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hoenix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nault Tehnologie Rouman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or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Alli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851280" y="1486080"/>
            <a:ext cx="863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UCEA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d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s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4067280" y="458136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ELEORM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oy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4067280" y="487044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A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lm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4356000" y="1270080"/>
            <a:ext cx="863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A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sa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se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1"/>
          <p:cNvSpPr/>
          <p:nvPr/>
        </p:nvSpPr>
        <p:spPr>
          <a:xfrm>
            <a:off x="5219640" y="2925720"/>
            <a:ext cx="43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uz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Ferm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e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4788000" y="1341360"/>
            <a:ext cx="50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ca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ar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3"/>
          <p:cNvSpPr/>
          <p:nvPr/>
        </p:nvSpPr>
        <p:spPr>
          <a:xfrm>
            <a:off x="7093080" y="620640"/>
            <a:ext cx="1152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VAS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LT Sentega  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727-74A5-42E4-A827-714053A6207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5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op 15 – fabricant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000080" y="1557360"/>
          <a:ext cx="3809880" cy="4922640"/>
        </p:xfrm>
        <a:graphic>
          <a:graphicData uri="http://schemas.openxmlformats.org/drawingml/2006/table">
            <a:tbl>
              <a:tblPr/>
              <a:tblGrid>
                <a:gridCol w="1582920"/>
                <a:gridCol w="1079280"/>
                <a:gridCol w="1147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‘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aj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Contin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Miche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Takata Pe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Leoni Wi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INA Schaeff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Yaz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119560" y="1557360"/>
          <a:ext cx="3810240" cy="4896000"/>
        </p:xfrm>
        <a:graphic>
          <a:graphicData uri="http://schemas.openxmlformats.org/drawingml/2006/table">
            <a:tbl>
              <a:tblPr/>
              <a:tblGrid>
                <a:gridCol w="1579680"/>
                <a:gridCol w="1081080"/>
                <a:gridCol w="11494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Johnson 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Draxlma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S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Pi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Autol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Co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Valeo Cab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Tim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.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.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14" name="Slide Number Placeholder 8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F223-DB3E-4501-A184-F36C4F4A1C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857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actorii care motiveaza dezvoltarea in continuare a  sectorulu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28800" y="1483920"/>
            <a:ext cx="82152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tegrarea locala a  gamei Dacia = 80% in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elul global  de furnizori Dacia- Renault – Nissan este deschis furnizorilor roman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enirea lui Ford in Romania cu un procent de integrare locala asumat = 60%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litica de incurajare a investitiilor straine directe si indigene in industria auto, in genera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stul inca redus al muncii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zitionarea in polul C&amp;E European de productie pentru care se prognozeaza  cresteri ale productiei auto in etapa 2007-2013: 47%, 192% pt Romani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CAC-CFBE-4C4B-9952-AD0C9737439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7400" y="475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rognoza CSM Worldwide pentru 2007-2013: crestere semnificativa in Polul central &amp; est european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19" name="Object 3"/>
          <p:cNvGraphicFramePr/>
          <p:nvPr/>
        </p:nvGraphicFramePr>
        <p:xfrm>
          <a:off x="917640" y="1768320"/>
          <a:ext cx="6913440" cy="403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768320"/>
                    <a:ext cx="69134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5"/>
          <p:cNvSpPr/>
          <p:nvPr/>
        </p:nvSpPr>
        <p:spPr>
          <a:xfrm>
            <a:off x="1428840" y="6308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a: Nu au fost luate in calcul implantarile decise dupa sem 1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2124000" y="5734080"/>
            <a:ext cx="460872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2411280" y="5877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stere Romania = 1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2279520" y="1773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564000" y="378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5148360" y="3068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4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6572160" y="35211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7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0" y="0"/>
            <a:ext cx="356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a auto va creste in z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1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B29-1253-49FA-A64C-52929E1B64F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2868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 Noi provocari in fata sectorului de componente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157400" y="385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vocari zonale/europene/glob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vocari loc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93EF-95D3-4932-BAC3-A4E758CF7C4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.1. Provocarile globale/europene/zonale se rasfrang asupra furnizorilor din Romani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Zona central &amp; est europeana = o zona predilecta de crestere a industriei auto, indiferent de scenarii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etul materialelor prim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sturile fabricatiei &amp; logisti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curitatea sourcingulu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glementarile europe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riza financiar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grame-suport ACAR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74B-51A8-4E47-A23A-A47FD23DD4E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7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 ani de crestere a preturil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terialelor de baz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785880" y="1230480"/>
            <a:ext cx="8964720" cy="55051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4"/>
          <p:cNvSpPr/>
          <p:nvPr/>
        </p:nvSpPr>
        <p:spPr>
          <a:xfrm>
            <a:off x="0" y="0"/>
            <a:ext cx="3240000" cy="3988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ul materialelor de b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9FE-3211-446B-B5C3-C3511384083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eveniment</cp:lastModifiedBy>
  <dcterms:modified xsi:type="dcterms:W3CDTF">2008-10-28T09:02:57Z</dcterms:modified>
  <cp:revision>33</cp:revision>
  <dc:subject/>
  <dc:title>PowerPoint Presentation</dc:title>
</cp:coreProperties>
</file>