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727D-ECB1-48DE-8376-E2316F0A4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357300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1AC3-8BC9-4B86-8B00-E8F5D19F4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748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F16B-3FEE-442D-A0A2-36CAB5BC8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20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52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20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52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DC70-70F9-447C-AD99-64CD50B8B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9CC7-B60B-40DC-B2DD-4636D3E58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7748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800" y="357300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7748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020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52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8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020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752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A968-6525-48A0-9282-83EDC35EB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D852-DFF6-4A1A-B2C8-D437A0F70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DC6A-30AF-44FB-BF44-683BE0A76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6BAF-F6C0-47C4-93DE-770E17A69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C284-685E-488C-9A1F-5AF2BA9D4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748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2050-ABAB-4975-8EE6-50A31A2E5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9C5A-9F8A-4D7C-908A-4783C5EB5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24"/>
              </a:spcBef>
              <a:buClr>
                <a:srgbClr val="0000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spcBef>
                <a:spcPts val="624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2" marL="1074240" indent="-214560">
              <a:spcBef>
                <a:spcPts val="624"/>
              </a:spcBef>
              <a:buClr>
                <a:srgbClr val="189e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3" marL="1504080" indent="-214560">
              <a:spcBef>
                <a:spcPts val="624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4" marL="1933920" indent="-214560">
              <a:spcBef>
                <a:spcPts val="624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5" marL="1933920" indent="-214560">
              <a:spcBef>
                <a:spcPts val="624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6" marL="1933920" indent="-214560">
              <a:spcBef>
                <a:spcPts val="624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40360" y="6356520"/>
            <a:ext cx="58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A906-8C27-46E7-AC4F-785E68CA2458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596360" y="6308640"/>
            <a:ext cx="1352520" cy="486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50920" y="549360"/>
            <a:ext cx="8712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237360"/>
            <a:ext cx="8785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120" y="24379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549360"/>
            <a:ext cx="8712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237360"/>
            <a:ext cx="8785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94560" y="6237360"/>
            <a:ext cx="1352520" cy="48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189eac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205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iata imobiliara din Romania – intre perceptie si cif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2920" y="5445000"/>
            <a:ext cx="4465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r. Lucian Anghel – Economist Sef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Banca Comerciala Roman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8000" y="2127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Land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458136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est, Anuntul Telefonic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36760" y="692280"/>
            <a:ext cx="6014880" cy="363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CF1F-049E-4F1B-9FC6-E8BD182E9E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8000" y="2127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nstruction sector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048360" cy="3519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24000" y="8208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struction sector, 1Q 2008 (annual increase)</a:t>
            </a: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581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stat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0271-7AB1-4D70-89A4-452D518D18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00" y="2127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nstruction sector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47973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National Bank of Romania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543640" cy="3959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71640" y="213516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Czech Republic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23493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Hungar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06864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Slovakia 200</a:t>
            </a:r>
            <a:r>
              <a:rPr b="0" lang="ro-RO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3141720"/>
            <a:ext cx="108000" cy="108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2421000"/>
            <a:ext cx="144360" cy="144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98920" y="2205000"/>
            <a:ext cx="144360" cy="144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E45C-B47D-4D3B-8AB1-E4882884BD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0360" y="21286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E4D8-EE71-48CF-9374-3D8E477280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1080" y="212760"/>
            <a:ext cx="82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Residential market – “What is more agreeable than one’s home ?” (Cicero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8208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mania – housing completions per 1,000 inhabitants</a:t>
            </a: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4809960"/>
            <a:ext cx="27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INSS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257800" cy="352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41300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new houses finished in rural area after the floods 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1989000"/>
            <a:ext cx="865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39A4-7445-4F5E-811A-E9509AC676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Residential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836640"/>
            <a:ext cx="547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verage price per sqm (existing apartments) vs. GDP per capita in selected countries</a:t>
            </a: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40360" cy="34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49165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uncil of Real Estate Professions, Eurostat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8209-C643-4847-95FD-72E852C3DA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Residential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836640"/>
            <a:ext cx="54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mania – ratio between the average price for an apartment and the wage income for a family with 2 members (year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6560" y="1557360"/>
            <a:ext cx="5113440" cy="3311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68360" y="2997360"/>
            <a:ext cx="47516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60720" y="1989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2276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4797360"/>
            <a:ext cx="27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INSS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A844-AB0E-4A0B-ABA3-A5667A39B9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Office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83664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cancy rate – country compariso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331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292720" y="4738680"/>
            <a:ext cx="35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nes Lang LaSall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2C08-52D0-4FCA-A80E-F23111C21D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Office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836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me office rents in Europe (4Q 2007)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345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92720" y="4738680"/>
            <a:ext cx="35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nes Lang LaSall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16A8-43EF-4DA2-B79A-3D9315FDE5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Retail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892080"/>
            <a:ext cx="49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isting shopping centre stock per 1,000 inhabitant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832360" cy="3456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92720" y="4738680"/>
            <a:ext cx="35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nes Lang LaSall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4EBB-4903-4877-AA9E-A0FE4EC5CC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8000" y="39600"/>
            <a:ext cx="90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Industrial market – “Industry is the soul of business and the keystone of prosperity” (Charles Dickens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9640" y="465300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ers, King Sturges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120000" cy="36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EDDE-A62D-40E2-B026-C92E2EB1D1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8000" y="21276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Land market – “Buy land, they’re not making it anymore” (Mark Twain)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08720" y="46530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ers, Realtime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04000" cy="357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1C5E-7A43-4161-B5D3-65D75A1943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9:51:36Z</dcterms:created>
  <dc:creator>Dulgheru Dumitru Teodor</dc:creator>
  <dc:description/>
  <dc:language>en-US</dc:language>
  <cp:lastModifiedBy>florineugen.sinca</cp:lastModifiedBy>
  <dcterms:modified xsi:type="dcterms:W3CDTF">2008-09-29T13:34:32Z</dcterms:modified>
  <cp:revision>510</cp:revision>
  <dc:subject/>
  <dc:title>Slide 1</dc:title>
</cp:coreProperties>
</file>